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9C0F9-C00A-400C-9B1C-C80CE6A207C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3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17628-DF51-4199-ACAE-99EE450C25DD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85E58-0385-4CE7-A2BA-C1CD51B851F0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3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FB6F7-44F3-4696-AF5B-2CE2A4F992CA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C8DF2E-2373-439B-8FB1-6625E84DC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4419E1-25C6-4A80-93B2-5D8805375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DA7B90-CD04-46C7-B29C-1145F15B0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29F4D8-9A36-4961-A0A4-575D05891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A132C8-9051-4DF4-897E-34D87CE0E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B5178C-E27D-4476-9866-9AA529A43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950036-6096-4F9D-A6CF-E2CD5BBBF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229F5C-4499-400A-BB67-80C89F9D7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EE8726-4E9A-47A5-A1F6-F012EC525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2C088D-BD54-462A-8CA9-1B03273E0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811073-D6DB-4C9B-A0F1-1E47C9F1C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6D626E-947E-44EB-9A85-D704A0BFE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B3893B-991B-44B0-ADCF-4884C6528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DD08C9-1806-4A47-A265-A4AFE336E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FBD233-F870-43E9-8CE3-97927C399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981195-7619-4A01-BFDA-0BA678AB0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F247CD-D09C-48DC-8699-9DDA21924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5B590E-7DC7-44E6-924C-0240333D1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D22B19-C93A-4F6F-BB88-54C597C7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5E183E-8F60-4CA7-B262-B75FF031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366A5F-DF5E-49CA-AEC4-04A38FCF6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84CE39-D61C-4FA3-A410-B2DA8D145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20E582-FCA3-4603-92F7-7775ED0B7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4BF14C-C218-45DC-80D2-B2D7990B7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61.xml"/><Relationship Id="rId10" Type="http://schemas.openxmlformats.org/officeDocument/2006/relationships/slideLayout" Target="../slideLayouts/slideLayout62.xml"/><Relationship Id="rId11" Type="http://schemas.openxmlformats.org/officeDocument/2006/relationships/slideLayout" Target="../slideLayouts/slideLayout63.xml"/><Relationship Id="rId12" Type="http://schemas.openxmlformats.org/officeDocument/2006/relationships/slideLayout" Target="../slideLayouts/slideLayout64.xml"/><Relationship Id="rId13" Type="http://schemas.openxmlformats.org/officeDocument/2006/relationships/slideLayout" Target="../slideLayouts/slideLayout65.xml"/><Relationship Id="rId14" Type="http://schemas.openxmlformats.org/officeDocument/2006/relationships/slideLayout" Target="../slideLayouts/slideLayout66.xml"/><Relationship Id="rId15" Type="http://schemas.openxmlformats.org/officeDocument/2006/relationships/slideLayout" Target="../slideLayouts/slideLayout67.xml"/><Relationship Id="rId16" Type="http://schemas.openxmlformats.org/officeDocument/2006/relationships/slideLayout" Target="../slideLayouts/slideLayout68.xml"/><Relationship Id="rId17" Type="http://schemas.openxmlformats.org/officeDocument/2006/relationships/slideLayout" Target="../slideLayouts/slideLayout69.xml"/><Relationship Id="rId18" Type="http://schemas.openxmlformats.org/officeDocument/2006/relationships/slideLayout" Target="../slideLayouts/slideLayout70.xml"/><Relationship Id="rId19" Type="http://schemas.openxmlformats.org/officeDocument/2006/relationships/slideLayout" Target="../slideLayouts/slideLayout71.xml"/><Relationship Id="rId20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79E4D-E0F9-4FC6-8E59-8CFCC693F89C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25"/>
            <p:cNvSpPr/>
            <p:nvPr/>
          </p:nvSpPr>
          <p:spPr>
            <a:xfrm rot="16200000">
              <a:off x="7776000" y="66088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7FFD4-82D5-4CC2-8D9F-E791F58CDAC4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8ECDE-6EEE-4962-9DB6-87FFE2F653D2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92E77-47CB-46A6-96B8-30C3DA6561DA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63F30-BC35-4439-A188-33864DF72763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8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906AE-1FB9-4660-A537-E30C336F8080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32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3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4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5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6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37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39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340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3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344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5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6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7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8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9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0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1" name="AutoShape 25"/>
            <p:cNvSpPr/>
            <p:nvPr/>
          </p:nvSpPr>
          <p:spPr>
            <a:xfrm rot="16200000">
              <a:off x="7776000" y="66088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2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81267-0D52-4EC0-9030-E18A7EC43CA1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3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354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5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6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57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8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9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60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361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2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3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4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5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66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367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7839D-3D89-4E56-A45C-AE9A2EADBB91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9"/>
    <p:sldLayoutId id="2147483715" r:id="rId10"/>
    <p:sldLayoutId id="2147483716" r:id="rId11"/>
    <p:sldLayoutId id="2147483717" r:id="rId12"/>
    <p:sldLayoutId id="2147483718" r:id="rId13"/>
    <p:sldLayoutId id="2147483719" r:id="rId14"/>
    <p:sldLayoutId id="2147483720" r:id="rId15"/>
    <p:sldLayoutId id="2147483721" r:id="rId16"/>
    <p:sldLayoutId id="2147483722" r:id="rId17"/>
    <p:sldLayoutId id="2147483723" r:id="rId18"/>
    <p:sldLayoutId id="2147483724" r:id="rId19"/>
    <p:sldLayoutId id="2147483725" r:id="rId20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12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3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4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15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6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17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19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20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1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2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23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24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5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6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7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8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9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0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1" name="AutoShape 25"/>
            <p:cNvSpPr/>
            <p:nvPr/>
          </p:nvSpPr>
          <p:spPr>
            <a:xfrm rot="16200000">
              <a:off x="7776000" y="66088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32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7C419-B35B-45EF-BC3F-A96ADA4C7934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3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4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1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7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7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8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8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8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8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8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4" name="AutoShape 25"/>
            <p:cNvSpPr/>
            <p:nvPr/>
          </p:nvSpPr>
          <p:spPr>
            <a:xfrm rot="16200000">
              <a:off x="7776000" y="66088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9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60323-8B49-4258-A65A-4277D5AA2124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7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98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1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7.xml"/><Relationship Id="rId1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2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08000" y="285480"/>
            <a:ext cx="9036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부 노년기의 삶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욕구와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문제</a:t>
            </a:r>
            <a:endParaRPr b="0" lang="en-US" sz="43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46" name="Picture 4" descr="그림1"/>
          <p:cNvPicPr/>
          <p:nvPr/>
        </p:nvPicPr>
        <p:blipFill>
          <a:blip r:embed="rId1"/>
          <a:stretch/>
        </p:blipFill>
        <p:spPr>
          <a:xfrm>
            <a:off x="-42840" y="1616040"/>
            <a:ext cx="9302760" cy="2803680"/>
          </a:xfrm>
          <a:prstGeom prst="rect">
            <a:avLst/>
          </a:prstGeom>
          <a:ln w="0">
            <a:noFill/>
          </a:ln>
        </p:spPr>
      </p:pic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571680" y="2000160"/>
            <a:ext cx="83152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3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경제생활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4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건강과 케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5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치매의 이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6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여가생활과 교육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c06cd"/>
                </a:solidFill>
                <a:latin typeface="HY강B"/>
                <a:ea typeface="HY강B"/>
              </a:rPr>
              <a:t>7</a:t>
            </a:r>
            <a:r>
              <a:rPr b="1" lang="ko-KR" sz="3600" spc="-1" strike="noStrike">
                <a:solidFill>
                  <a:srgbClr val="dc06cd"/>
                </a:solidFill>
                <a:latin typeface="HY강B"/>
                <a:ea typeface="HY강B"/>
              </a:rPr>
              <a:t>장 노년기의 주거생활과 고령친화산업</a:t>
            </a:r>
            <a:endParaRPr b="0" lang="en-US" sz="36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8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사회관계망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9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삶의 이면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(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裏面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)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그룹 10"/>
          <p:cNvGrpSpPr/>
          <p:nvPr/>
        </p:nvGrpSpPr>
        <p:grpSpPr>
          <a:xfrm>
            <a:off x="214200" y="71280"/>
            <a:ext cx="8929800" cy="6000840"/>
            <a:chOff x="214200" y="71280"/>
            <a:chExt cx="8929800" cy="6000840"/>
          </a:xfrm>
        </p:grpSpPr>
        <p:sp>
          <p:nvSpPr>
            <p:cNvPr id="651" name="AutoShape 2"/>
            <p:cNvSpPr/>
            <p:nvPr/>
          </p:nvSpPr>
          <p:spPr>
            <a:xfrm>
              <a:off x="499680" y="4857840"/>
              <a:ext cx="8280720" cy="1214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2" name="AutoShape 4"/>
            <p:cNvSpPr/>
            <p:nvPr/>
          </p:nvSpPr>
          <p:spPr>
            <a:xfrm>
              <a:off x="356760" y="71280"/>
              <a:ext cx="435780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노인복지시설의 설계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3" name="AutoShape 2"/>
            <p:cNvSpPr/>
            <p:nvPr/>
          </p:nvSpPr>
          <p:spPr>
            <a:xfrm>
              <a:off x="499680" y="1285560"/>
              <a:ext cx="8280720" cy="2714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54" name="그룹 10"/>
            <p:cNvGrpSpPr/>
            <p:nvPr/>
          </p:nvGrpSpPr>
          <p:grpSpPr>
            <a:xfrm>
              <a:off x="214200" y="785520"/>
              <a:ext cx="8929800" cy="3186360"/>
              <a:chOff x="214200" y="785520"/>
              <a:chExt cx="8929800" cy="3186360"/>
            </a:xfrm>
          </p:grpSpPr>
          <p:sp>
            <p:nvSpPr>
              <p:cNvPr id="655" name="AutoShape 29"/>
              <p:cNvSpPr/>
              <p:nvPr/>
            </p:nvSpPr>
            <p:spPr>
              <a:xfrm>
                <a:off x="214200" y="78552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노인복지시설 설계의 기본 지침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56" name="Text Box 25"/>
              <p:cNvSpPr/>
              <p:nvPr/>
            </p:nvSpPr>
            <p:spPr>
              <a:xfrm>
                <a:off x="571320" y="1285560"/>
                <a:ext cx="8572680" cy="268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립생활 지원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barrier-free facility. universal design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생활 보장과 사회적 교류 촉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공간의 합리적 배치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zoning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안전사고의 예방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non-slip system, nurse call system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친사회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친환경적 개방공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설종사자의 편의 증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충분한 문화 및 여가공간의 확보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57" name="그룹 10"/>
            <p:cNvGrpSpPr/>
            <p:nvPr/>
          </p:nvGrpSpPr>
          <p:grpSpPr>
            <a:xfrm>
              <a:off x="214200" y="4332240"/>
              <a:ext cx="8929800" cy="1681560"/>
              <a:chOff x="214200" y="4332240"/>
              <a:chExt cx="8929800" cy="1681560"/>
            </a:xfrm>
          </p:grpSpPr>
          <p:sp>
            <p:nvSpPr>
              <p:cNvPr id="658" name="AutoShape 29"/>
              <p:cNvSpPr/>
              <p:nvPr/>
            </p:nvSpPr>
            <p:spPr>
              <a:xfrm>
                <a:off x="214200" y="433224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노인복지시설 공간별 설계지침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59" name="Text Box 25"/>
              <p:cNvSpPr/>
              <p:nvPr/>
            </p:nvSpPr>
            <p:spPr>
              <a:xfrm>
                <a:off x="571320" y="4903560"/>
                <a:ext cx="8572680" cy="111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79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출입구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벽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바닥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승강기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활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화장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담화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목욕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오물처리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활복지사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식당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탁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냉난방설비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명설비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정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현관과 정원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등의 설계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7-5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그룹 12"/>
          <p:cNvGrpSpPr/>
          <p:nvPr/>
        </p:nvGrpSpPr>
        <p:grpSpPr>
          <a:xfrm>
            <a:off x="142920" y="71280"/>
            <a:ext cx="9001080" cy="6262920"/>
            <a:chOff x="142920" y="71280"/>
            <a:chExt cx="9001080" cy="6262920"/>
          </a:xfrm>
        </p:grpSpPr>
        <p:sp>
          <p:nvSpPr>
            <p:cNvPr id="661" name="AutoShape 2"/>
            <p:cNvSpPr/>
            <p:nvPr/>
          </p:nvSpPr>
          <p:spPr>
            <a:xfrm>
              <a:off x="180720" y="3214440"/>
              <a:ext cx="8748720" cy="30715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2" name="AutoShape 2"/>
            <p:cNvSpPr/>
            <p:nvPr/>
          </p:nvSpPr>
          <p:spPr>
            <a:xfrm>
              <a:off x="142920" y="1928520"/>
              <a:ext cx="8748720" cy="7855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3" name="Text Box 25"/>
            <p:cNvSpPr/>
            <p:nvPr/>
          </p:nvSpPr>
          <p:spPr>
            <a:xfrm>
              <a:off x="214200" y="1935000"/>
              <a:ext cx="8715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원칙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권보호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기결정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립생활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가요양 우선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례관리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비밀보장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록 및 공개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통합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전문서비스와 효율성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부당청구 금지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알선행위 금지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7-6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64" name="그룹 30"/>
            <p:cNvGrpSpPr/>
            <p:nvPr/>
          </p:nvGrpSpPr>
          <p:grpSpPr>
            <a:xfrm>
              <a:off x="142920" y="71280"/>
              <a:ext cx="9001080" cy="1395000"/>
              <a:chOff x="142920" y="71280"/>
              <a:chExt cx="9001080" cy="1395000"/>
            </a:xfrm>
          </p:grpSpPr>
          <p:sp>
            <p:nvSpPr>
              <p:cNvPr id="665" name="AutoShape 2"/>
              <p:cNvSpPr/>
              <p:nvPr/>
            </p:nvSpPr>
            <p:spPr>
              <a:xfrm>
                <a:off x="181080" y="621720"/>
                <a:ext cx="8748720" cy="806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66" name="AutoShape 7"/>
              <p:cNvSpPr/>
              <p:nvPr/>
            </p:nvSpPr>
            <p:spPr>
              <a:xfrm>
                <a:off x="142920" y="71280"/>
                <a:ext cx="535788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 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복지시설의 운영과 관리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67" name="Text Box 25"/>
              <p:cNvSpPr/>
              <p:nvPr/>
            </p:nvSpPr>
            <p:spPr>
              <a:xfrm>
                <a:off x="214200" y="777600"/>
                <a:ext cx="8929800" cy="68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설운영 방식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주거복지시설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&gt;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고지원방식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료복지시설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&gt;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보험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방식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다음에서는 노인의료복지시설 운영과 관리를 중심으로 논의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68" name="AutoShape 29"/>
            <p:cNvSpPr/>
            <p:nvPr/>
          </p:nvSpPr>
          <p:spPr>
            <a:xfrm>
              <a:off x="142920" y="1571400"/>
              <a:ext cx="8572680" cy="3571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B"/>
                </a:rPr>
                <a:t>시설 서비스 제공의 기본 원칙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B"/>
                </a:rPr>
                <a:t>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9" name="AutoShape 29"/>
            <p:cNvSpPr/>
            <p:nvPr/>
          </p:nvSpPr>
          <p:spPr>
            <a:xfrm>
              <a:off x="142920" y="271440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B"/>
                </a:rPr>
                <a:t>인력관리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B"/>
                </a:rPr>
                <a:t>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0" name="Text Box 25"/>
            <p:cNvSpPr/>
            <p:nvPr/>
          </p:nvSpPr>
          <p:spPr>
            <a:xfrm>
              <a:off x="214200" y="3316320"/>
              <a:ext cx="8643960" cy="30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전문인력의 적정수준 확보는 시설운영의 핵심 요소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시설종류별 인력배치 기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7-7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단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시설규모에따라 일부 종사자 추가배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요양보호사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성 질환으로 독립적인 일상생활을 수행하기 어려운 노인들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위해 노인요양 및 재가시설에서 신체 및 가사 지원 서비스를 제공하는 인력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 </a:t>
              </a:r>
              <a:endParaRPr b="0" lang="en-US" sz="15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7030a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요양보호사 양성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: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연령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,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교육수준에 관계없이 소정 교육 이수 후 시도지사 주관 자격시험 통과 </a:t>
              </a:r>
              <a:endParaRPr b="0" lang="en-US" sz="15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7030a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양성교육시간</a:t>
              </a:r>
              <a:r>
                <a:rPr b="0" lang="en-US" sz="15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5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5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7-8 </a:t>
              </a:r>
              <a:r>
                <a:rPr b="0" lang="ko-KR" sz="15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.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단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,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경력자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,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간호사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,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사회복지사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,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물리치료사 자격소지자는 교육</a:t>
              </a:r>
              <a:endParaRPr b="0" lang="en-US" sz="15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  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시간 감면 </a:t>
              </a:r>
              <a:endParaRPr b="0" lang="en-US" sz="15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7030a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 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교육수준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,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연령에 관계없이 단기교육으로 양성된 요양보호사의 질적 문제로 요양서비스 </a:t>
              </a:r>
              <a:endParaRPr b="0" lang="en-US" sz="15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  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의 질적 문제 야기 가능성 </a:t>
              </a:r>
              <a:endParaRPr b="0" lang="en-US" sz="1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1" name="그룹 8"/>
          <p:cNvGrpSpPr/>
          <p:nvPr/>
        </p:nvGrpSpPr>
        <p:grpSpPr>
          <a:xfrm>
            <a:off x="0" y="214200"/>
            <a:ext cx="8929800" cy="6500880"/>
            <a:chOff x="0" y="214200"/>
            <a:chExt cx="8929800" cy="6500880"/>
          </a:xfrm>
        </p:grpSpPr>
        <p:pic>
          <p:nvPicPr>
            <p:cNvPr id="672" name="Picture 2" descr="C:\DOCUME~1\USER\LOCALS~1\Temp\UNI000009b01cd2.gif"/>
            <p:cNvPicPr/>
            <p:nvPr/>
          </p:nvPicPr>
          <p:blipFill>
            <a:blip r:embed="rId1"/>
            <a:stretch/>
          </p:blipFill>
          <p:spPr>
            <a:xfrm>
              <a:off x="0" y="5035680"/>
              <a:ext cx="3929040" cy="16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AutoShape 2"/>
            <p:cNvSpPr/>
            <p:nvPr/>
          </p:nvSpPr>
          <p:spPr>
            <a:xfrm>
              <a:off x="180720" y="785520"/>
              <a:ext cx="8749080" cy="185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4" name="AutoShape 29"/>
            <p:cNvSpPr/>
            <p:nvPr/>
          </p:nvSpPr>
          <p:spPr>
            <a:xfrm>
              <a:off x="142560" y="21420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인력관리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5" name="Text Box 25"/>
            <p:cNvSpPr/>
            <p:nvPr/>
          </p:nvSpPr>
          <p:spPr>
            <a:xfrm>
              <a:off x="214200" y="857160"/>
              <a:ext cx="8715600" cy="164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건비 지급기준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거복지시설은 사회복지시설 관리안내의 인건비 지침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적용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의료복지시설은 시설 경영자가 근로기준법 내에서 자율 결정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요양보호사 등은 대부분 계약직 채용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종사자의 급여수준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근무환경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직업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안정성은 장기요양보험제도 시행 후 오히려 악화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6" name="AutoShape 2"/>
            <p:cNvSpPr/>
            <p:nvPr/>
          </p:nvSpPr>
          <p:spPr>
            <a:xfrm>
              <a:off x="180720" y="3357360"/>
              <a:ext cx="8749080" cy="1643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7" name="AutoShape 29"/>
            <p:cNvSpPr/>
            <p:nvPr/>
          </p:nvSpPr>
          <p:spPr>
            <a:xfrm>
              <a:off x="142560" y="278604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84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재정관리</a:t>
              </a:r>
              <a:r>
                <a:rPr b="0" lang="en-US" sz="2400" spc="-1" strike="noStrike">
                  <a:solidFill>
                    <a:srgbClr val="c00000"/>
                  </a:solidFill>
                  <a:latin typeface="HY강B"/>
                </a:rPr>
                <a:t>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8" name="Text Box 25"/>
            <p:cNvSpPr/>
            <p:nvPr/>
          </p:nvSpPr>
          <p:spPr>
            <a:xfrm>
              <a:off x="214200" y="3463920"/>
              <a:ext cx="8644320" cy="15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spcAft>
                  <a:spcPts val="601"/>
                </a:spcAft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 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거복지시설의 재정관리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 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국고와 지방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 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실비입소자의 입소비용으로 조성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생계비는 국민기초생활보장법 기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관리운영비는 시설경영자가 자체 운영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계획에 의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집행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9" name="그룹 9"/>
          <p:cNvGrpSpPr/>
          <p:nvPr/>
        </p:nvGrpSpPr>
        <p:grpSpPr>
          <a:xfrm>
            <a:off x="142920" y="71280"/>
            <a:ext cx="8786880" cy="6199920"/>
            <a:chOff x="142920" y="71280"/>
            <a:chExt cx="8786880" cy="6199920"/>
          </a:xfrm>
        </p:grpSpPr>
        <p:sp>
          <p:nvSpPr>
            <p:cNvPr id="680" name="AutoShape 2"/>
            <p:cNvSpPr/>
            <p:nvPr/>
          </p:nvSpPr>
          <p:spPr>
            <a:xfrm>
              <a:off x="180720" y="499680"/>
              <a:ext cx="8749080" cy="3215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1" name="AutoShape 29"/>
            <p:cNvSpPr/>
            <p:nvPr/>
          </p:nvSpPr>
          <p:spPr>
            <a:xfrm>
              <a:off x="142920" y="71280"/>
              <a:ext cx="8572680" cy="42840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84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재정관리</a:t>
              </a:r>
              <a:r>
                <a:rPr b="0" lang="en-US" sz="2400" spc="-1" strike="noStrike">
                  <a:solidFill>
                    <a:srgbClr val="c00000"/>
                  </a:solidFill>
                  <a:latin typeface="HY강B"/>
                </a:rPr>
                <a:t>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2" name="Text Box 25"/>
            <p:cNvSpPr/>
            <p:nvPr/>
          </p:nvSpPr>
          <p:spPr>
            <a:xfrm>
              <a:off x="285480" y="453600"/>
              <a:ext cx="8644320" cy="32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spcAft>
                  <a:spcPts val="601"/>
                </a:spcAft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 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의료복지시설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장기요양기관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 재정관리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급여방식과 수가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두제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人頭制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방식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시설종류와 등급에 따른 차등수가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7-9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급여비용 구성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 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장기요양보험급여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80%)+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입소노인 본인부담금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20%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단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소득 따라 경감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비급여 항목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식사재료비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상급 침실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1-2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실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이용 추가비용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이</a:t>
              </a:r>
              <a:r>
                <a:rPr b="0" lang="ko-KR" sz="1600" spc="-1" strike="noStrike">
                  <a:solidFill>
                    <a:srgbClr val="002060"/>
                  </a:solidFill>
                  <a:latin typeface="맑은 고딕"/>
                  <a:ea typeface="맑은 고딕"/>
                </a:rPr>
                <a:t>〮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미용비는 전액 본인부담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원거리 택시 등의 비용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개별 물품 구입비용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개인 희망 서비스 이용비용은 실비 부담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경영자는 운영수입 범위 내에서 생계비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건비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운영비 등을 자율 집행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시설환경개선 비용 적립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난방비와 공공요금 부담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상해 및 영업배상보험 가입 등으로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재정압박시 서비스 운영경비 축소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력구조조정 등의 비용절감 시도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이런 재정운용방식 선택 시 서비스 질 저하로 이어지고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결국 소비자의 선택을 받지 못  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하는 상황에 직면할 수 있으므로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외부 자원개발을 위한 노력 필요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83" name="그룹 8"/>
            <p:cNvGrpSpPr/>
            <p:nvPr/>
          </p:nvGrpSpPr>
          <p:grpSpPr>
            <a:xfrm>
              <a:off x="180720" y="3857760"/>
              <a:ext cx="8749080" cy="2413440"/>
              <a:chOff x="180720" y="3857760"/>
              <a:chExt cx="8749080" cy="2413440"/>
            </a:xfrm>
          </p:grpSpPr>
          <p:sp>
            <p:nvSpPr>
              <p:cNvPr id="684" name="AutoShape 2"/>
              <p:cNvSpPr/>
              <p:nvPr/>
            </p:nvSpPr>
            <p:spPr>
              <a:xfrm>
                <a:off x="180720" y="4263120"/>
                <a:ext cx="8749080" cy="19522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85" name="Text Box 6"/>
              <p:cNvSpPr/>
              <p:nvPr/>
            </p:nvSpPr>
            <p:spPr>
              <a:xfrm>
                <a:off x="285480" y="4264200"/>
                <a:ext cx="8644320" cy="200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인당 면적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양로시설과 노인공동생활가정은 노인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인당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15.9m2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요양시설은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23.6m2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요양공동생활시설은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20.5m2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시설의 시설 기준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7-10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기준 시설의 확보 이외에 공간별 계획 설계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7-5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가 필요하며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냉난방관리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습기와 냄새관리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청소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전기 등의 안전점검을 철저히 해야 함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시설설비 개조필요 비용 마련을 위해 감가상각비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지속 적립 필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86" name="직사각형 8"/>
              <p:cNvSpPr/>
              <p:nvPr/>
            </p:nvSpPr>
            <p:spPr>
              <a:xfrm>
                <a:off x="213840" y="3857760"/>
                <a:ext cx="507240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시설관리</a:t>
                </a:r>
                <a:r>
                  <a:rPr b="0" lang="en-US" sz="2400" spc="-1" strike="noStrike">
                    <a:solidFill>
                      <a:srgbClr val="c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7" name="그룹 11"/>
          <p:cNvGrpSpPr/>
          <p:nvPr/>
        </p:nvGrpSpPr>
        <p:grpSpPr>
          <a:xfrm>
            <a:off x="0" y="142920"/>
            <a:ext cx="9001080" cy="6487920"/>
            <a:chOff x="0" y="142920"/>
            <a:chExt cx="9001080" cy="6487920"/>
          </a:xfrm>
        </p:grpSpPr>
        <p:pic>
          <p:nvPicPr>
            <p:cNvPr id="688" name="Picture 4" descr="C:\DOCUME~1\USER\LOCALS~1\Temp\UNI000006ac76dc.gif"/>
            <p:cNvPicPr/>
            <p:nvPr/>
          </p:nvPicPr>
          <p:blipFill>
            <a:blip r:embed="rId1"/>
            <a:stretch/>
          </p:blipFill>
          <p:spPr>
            <a:xfrm>
              <a:off x="0" y="5929200"/>
              <a:ext cx="1857240" cy="701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9" name="그룹 2"/>
            <p:cNvGrpSpPr/>
            <p:nvPr/>
          </p:nvGrpSpPr>
          <p:grpSpPr>
            <a:xfrm>
              <a:off x="180720" y="142920"/>
              <a:ext cx="8820360" cy="1857240"/>
              <a:chOff x="180720" y="142920"/>
              <a:chExt cx="8820360" cy="1857240"/>
            </a:xfrm>
          </p:grpSpPr>
          <p:sp>
            <p:nvSpPr>
              <p:cNvPr id="690" name="AutoShape 2"/>
              <p:cNvSpPr/>
              <p:nvPr/>
            </p:nvSpPr>
            <p:spPr>
              <a:xfrm>
                <a:off x="180720" y="646200"/>
                <a:ext cx="8820360" cy="1353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1" name="Text Box 6"/>
              <p:cNvSpPr/>
              <p:nvPr/>
            </p:nvSpPr>
            <p:spPr>
              <a:xfrm>
                <a:off x="285480" y="733320"/>
                <a:ext cx="8715600" cy="121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통 요양서비스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-1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와 함께 개별화된 사례관리서비스를 제공해야 함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입소노인 개인의 장기요양등급과 욕구에 대한 종합사정을 바탕으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건의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서비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본생활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care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 및 사회교류 촉진서비스 등이 이루어져야 함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2" name="직사각형 4"/>
              <p:cNvSpPr/>
              <p:nvPr/>
            </p:nvSpPr>
            <p:spPr>
              <a:xfrm>
                <a:off x="213840" y="142920"/>
                <a:ext cx="59295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프로그램관리</a:t>
                </a:r>
                <a:r>
                  <a:rPr b="0" lang="en-US" sz="2400" spc="-1" strike="noStrike">
                    <a:solidFill>
                      <a:srgbClr val="c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93" name="AutoShape 2"/>
            <p:cNvSpPr/>
            <p:nvPr/>
          </p:nvSpPr>
          <p:spPr>
            <a:xfrm>
              <a:off x="142560" y="3000240"/>
              <a:ext cx="8858520" cy="3071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94" name="그룹 10"/>
            <p:cNvGrpSpPr/>
            <p:nvPr/>
          </p:nvGrpSpPr>
          <p:grpSpPr>
            <a:xfrm>
              <a:off x="285480" y="2357280"/>
              <a:ext cx="8643960" cy="3299400"/>
              <a:chOff x="285480" y="2357280"/>
              <a:chExt cx="8643960" cy="3299400"/>
            </a:xfrm>
          </p:grpSpPr>
          <p:sp>
            <p:nvSpPr>
              <p:cNvPr id="695" name="AutoShape 4"/>
              <p:cNvSpPr/>
              <p:nvPr/>
            </p:nvSpPr>
            <p:spPr>
              <a:xfrm>
                <a:off x="285480" y="2357280"/>
                <a:ext cx="414324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1" lang="ko-KR" sz="2600" spc="-1" strike="noStrike">
                    <a:solidFill>
                      <a:srgbClr val="ffffff"/>
                    </a:solidFill>
                    <a:latin typeface="HY강B"/>
                  </a:rPr>
                  <a:t>노인복지시설 평가</a:t>
                </a:r>
                <a:r>
                  <a:rPr b="1" lang="en-US" sz="26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6" name="Text Box 6"/>
              <p:cNvSpPr/>
              <p:nvPr/>
            </p:nvSpPr>
            <p:spPr>
              <a:xfrm>
                <a:off x="285480" y="3109680"/>
                <a:ext cx="8643960" cy="254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복지사업법에 근거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주기로 모든 사회복지시설 평가 의무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복지시설은 사회복지사업법에 의거 기존의 노인복지시설 평가방법과 절차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적용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료복지시설은 노인장기요양보험법 제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54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에 의거하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관운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경 및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안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권리 및 책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급여 제공과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급여 제공결과 등을 평가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료복지시설 평가주체 및 결과공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민건강보험공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홈페이지 공고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7" name="그룹 5"/>
          <p:cNvGrpSpPr/>
          <p:nvPr/>
        </p:nvGrpSpPr>
        <p:grpSpPr>
          <a:xfrm>
            <a:off x="142920" y="214200"/>
            <a:ext cx="8929800" cy="6000840"/>
            <a:chOff x="142920" y="214200"/>
            <a:chExt cx="8929800" cy="6000840"/>
          </a:xfrm>
        </p:grpSpPr>
        <p:sp>
          <p:nvSpPr>
            <p:cNvPr id="698" name="AutoShape 2"/>
            <p:cNvSpPr/>
            <p:nvPr/>
          </p:nvSpPr>
          <p:spPr>
            <a:xfrm>
              <a:off x="142920" y="857160"/>
              <a:ext cx="8858520" cy="5357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99" name="그룹 10"/>
            <p:cNvGrpSpPr/>
            <p:nvPr/>
          </p:nvGrpSpPr>
          <p:grpSpPr>
            <a:xfrm>
              <a:off x="285480" y="214200"/>
              <a:ext cx="8787240" cy="5913720"/>
              <a:chOff x="285480" y="214200"/>
              <a:chExt cx="8787240" cy="5913720"/>
            </a:xfrm>
          </p:grpSpPr>
          <p:sp>
            <p:nvSpPr>
              <p:cNvPr id="700" name="AutoShape 4"/>
              <p:cNvSpPr/>
              <p:nvPr/>
            </p:nvSpPr>
            <p:spPr>
              <a:xfrm>
                <a:off x="285480" y="214200"/>
                <a:ext cx="550116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ffff"/>
                    </a:solidFill>
                    <a:latin typeface="HY강B"/>
                  </a:rPr>
                  <a:t>5) </a:t>
                </a:r>
                <a:r>
                  <a:rPr b="1" lang="ko-KR" sz="2600" spc="-1" strike="noStrike">
                    <a:solidFill>
                      <a:srgbClr val="ffffff"/>
                    </a:solidFill>
                    <a:latin typeface="HY강B"/>
                  </a:rPr>
                  <a:t>노인복지시설의 문제와 과제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01" name="Text Box 6"/>
              <p:cNvSpPr/>
              <p:nvPr/>
            </p:nvSpPr>
            <p:spPr>
              <a:xfrm>
                <a:off x="285480" y="1095120"/>
                <a:ext cx="8787240" cy="50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시설의 수와 편중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 수 부족 예측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도시지역 편중되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정자립도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낮은 지자체와 농촌지역의 부족 심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시설 재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역 및 시설간 빈익빈 부익부 현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기요양보험시장의 경쟁력 상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폐쇄되는 시설 존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정자립도 낮은 지자체의 지방비 지원 부족으로 시설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서비스의 질적 저하 초래 가능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인력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기교육에 의한 요양보호사 양성으로 인력의 질 확보 어려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요양보호사의 비정규직화 및 구조조정 등으로 직업안정성 저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급여 및 복리증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위한 국가의 적극적 개입 필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서비스와 프로그램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례관리와 개별화된 서비스의 강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운영자 인식개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운영경비 상향조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다양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력 및 시설확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시설환경과 설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설비의 노후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 자체의 감가상각비 적립을 통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기적 리모델링이 요구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그룹 11"/>
          <p:cNvGrpSpPr/>
          <p:nvPr/>
        </p:nvGrpSpPr>
        <p:grpSpPr>
          <a:xfrm>
            <a:off x="0" y="0"/>
            <a:ext cx="9501120" cy="6410520"/>
            <a:chOff x="0" y="0"/>
            <a:chExt cx="9501120" cy="6410520"/>
          </a:xfrm>
        </p:grpSpPr>
        <p:pic>
          <p:nvPicPr>
            <p:cNvPr id="70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Rectangle 2"/>
            <p:cNvSpPr/>
            <p:nvPr/>
          </p:nvSpPr>
          <p:spPr>
            <a:xfrm>
              <a:off x="171432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5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고령친화산업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05" name="그룹 34"/>
            <p:cNvGrpSpPr/>
            <p:nvPr/>
          </p:nvGrpSpPr>
          <p:grpSpPr>
            <a:xfrm>
              <a:off x="285480" y="714240"/>
              <a:ext cx="8643960" cy="2866320"/>
              <a:chOff x="285480" y="714240"/>
              <a:chExt cx="8643960" cy="2866320"/>
            </a:xfrm>
          </p:grpSpPr>
          <p:sp>
            <p:nvSpPr>
              <p:cNvPr id="706" name="AutoShape 2"/>
              <p:cNvSpPr/>
              <p:nvPr/>
            </p:nvSpPr>
            <p:spPr>
              <a:xfrm>
                <a:off x="285480" y="1067400"/>
                <a:ext cx="8643960" cy="2471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07" name="AutoShape 4"/>
              <p:cNvSpPr/>
              <p:nvPr/>
            </p:nvSpPr>
            <p:spPr>
              <a:xfrm>
                <a:off x="356760" y="714240"/>
                <a:ext cx="4857840" cy="4237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고령친화산업의 개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08" name="Text Box 6"/>
              <p:cNvSpPr/>
              <p:nvPr/>
            </p:nvSpPr>
            <p:spPr>
              <a:xfrm>
                <a:off x="499680" y="1188720"/>
                <a:ext cx="8429760" cy="239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용어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silver industry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 아닌 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elderly market, mature market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이 적절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요양서비스 등과 같은 고령친화제품 등을 연구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개발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제조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건축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제공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유통 또는 판매하는 산업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령친화산업진흥법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특성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대상→ 노인과 고령자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공급주체→ 민간기업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서비스 원칙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시장경제원리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분야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욕구와 문제해결에 필요한 상품과 서비스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령친화산업은 이윤을 중시하는 민간재와 공익을 중시하는 공공재의 특성을 공유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한 혼합재의 속성을 지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09" name="그룹 34"/>
            <p:cNvGrpSpPr/>
            <p:nvPr/>
          </p:nvGrpSpPr>
          <p:grpSpPr>
            <a:xfrm>
              <a:off x="285480" y="3572280"/>
              <a:ext cx="8643960" cy="2838240"/>
              <a:chOff x="285480" y="3572280"/>
              <a:chExt cx="8643960" cy="2838240"/>
            </a:xfrm>
          </p:grpSpPr>
          <p:sp>
            <p:nvSpPr>
              <p:cNvPr id="710" name="AutoShape 2"/>
              <p:cNvSpPr/>
              <p:nvPr/>
            </p:nvSpPr>
            <p:spPr>
              <a:xfrm>
                <a:off x="285480" y="3982320"/>
                <a:ext cx="8643960" cy="24282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11" name="AutoShape 4"/>
              <p:cNvSpPr/>
              <p:nvPr/>
            </p:nvSpPr>
            <p:spPr>
              <a:xfrm>
                <a:off x="356760" y="3572280"/>
                <a:ext cx="52149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고령친화산업의 등장과 발전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12" name="Text Box 6"/>
              <p:cNvSpPr/>
              <p:nvPr/>
            </p:nvSpPr>
            <p:spPr>
              <a:xfrm>
                <a:off x="499680" y="4088160"/>
                <a:ext cx="8358480" cy="230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등장배경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인구 증가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의 경제력 향상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복지서비스에 대한 인식변화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족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구조 및 부양기능 약화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국가의 복지책임 이행 한계와 민영화 추진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령친화산업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 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의 학술적 연구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미국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70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대 활성화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일본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70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대 시작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한국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1993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 유료시설 에 민간참여 허용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006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 고령친화산업진흥법 제정으로 기반구축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5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앞으로 경제력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유시간이 많은 노인의 증가와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의료수요 및 욕구 다양화로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령친화산업 확대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베이비붐 세대의 은퇴와 노년기 진입으로 시장규모 더욱 확대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3" name="그룹 9"/>
          <p:cNvGrpSpPr/>
          <p:nvPr/>
        </p:nvGrpSpPr>
        <p:grpSpPr>
          <a:xfrm>
            <a:off x="357120" y="71280"/>
            <a:ext cx="8786880" cy="6393600"/>
            <a:chOff x="357120" y="71280"/>
            <a:chExt cx="8786880" cy="6393600"/>
          </a:xfrm>
        </p:grpSpPr>
        <p:grpSp>
          <p:nvGrpSpPr>
            <p:cNvPr id="714" name="그룹 34"/>
            <p:cNvGrpSpPr/>
            <p:nvPr/>
          </p:nvGrpSpPr>
          <p:grpSpPr>
            <a:xfrm>
              <a:off x="357120" y="71280"/>
              <a:ext cx="8786880" cy="1717560"/>
              <a:chOff x="357120" y="71280"/>
              <a:chExt cx="8786880" cy="1717560"/>
            </a:xfrm>
          </p:grpSpPr>
          <p:sp>
            <p:nvSpPr>
              <p:cNvPr id="715" name="AutoShape 2"/>
              <p:cNvSpPr/>
              <p:nvPr/>
            </p:nvSpPr>
            <p:spPr>
              <a:xfrm>
                <a:off x="357120" y="428400"/>
                <a:ext cx="8644320" cy="1357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16" name="AutoShape 4"/>
              <p:cNvSpPr/>
              <p:nvPr/>
            </p:nvSpPr>
            <p:spPr>
              <a:xfrm>
                <a:off x="357120" y="71280"/>
                <a:ext cx="435780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고령친화산업의 분야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17" name="Text Box 6"/>
              <p:cNvSpPr/>
              <p:nvPr/>
            </p:nvSpPr>
            <p:spPr>
              <a:xfrm>
                <a:off x="499680" y="551160"/>
                <a:ext cx="8644320" cy="123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공급주체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소비자 특성과 욕구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공급방식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업내용에 따라 구분 가능하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지만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업내용에 따라 요양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의약품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식품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화장품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의료기기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주거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금융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 등으로 구분되며 다양한 사업 포함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-1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18" name="그룹 34"/>
            <p:cNvGrpSpPr/>
            <p:nvPr/>
          </p:nvGrpSpPr>
          <p:grpSpPr>
            <a:xfrm>
              <a:off x="357120" y="1928520"/>
              <a:ext cx="8644320" cy="4536360"/>
              <a:chOff x="357120" y="1928520"/>
              <a:chExt cx="8644320" cy="4536360"/>
            </a:xfrm>
          </p:grpSpPr>
          <p:sp>
            <p:nvSpPr>
              <p:cNvPr id="719" name="AutoShape 2"/>
              <p:cNvSpPr/>
              <p:nvPr/>
            </p:nvSpPr>
            <p:spPr>
              <a:xfrm>
                <a:off x="357120" y="2338560"/>
                <a:ext cx="8644320" cy="4091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20" name="AutoShape 4"/>
              <p:cNvSpPr/>
              <p:nvPr/>
            </p:nvSpPr>
            <p:spPr>
              <a:xfrm>
                <a:off x="357120" y="1928520"/>
                <a:ext cx="435780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고령친화산업의 현황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21" name="Text Box 6"/>
              <p:cNvSpPr/>
              <p:nvPr/>
            </p:nvSpPr>
            <p:spPr>
              <a:xfrm>
                <a:off x="499680" y="2444400"/>
                <a:ext cx="8501760" cy="402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령친화산업은 주거관련 분야를 중심으로 발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거분야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유료시설 입소 및 생활비는 편차가 크며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수도권 지역에 집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되어 있으며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계층간 위화감 조성 및 복지차별 문제 야기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의료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케어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장기요양보험제도 시행으로 이 분야의 사업이 급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속히 확대될 것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국산 복지용구의 개발과 생산 확대가 과제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금융분야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연금신탁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연금보험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각종 건강보험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주택연금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농지연금 등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상품 다양화와 가입자 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여가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교육분야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해외 테마여행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레포츠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교육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정보서비스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다양화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서전쓰기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취미클럽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웹사이트 운영 등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생활편의서비스분야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건강보조식품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특별식 배달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전용의류디자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과 판매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의존성 노인에 대한 배달서비스 확산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2" name="그룹 11"/>
          <p:cNvGrpSpPr/>
          <p:nvPr/>
        </p:nvGrpSpPr>
        <p:grpSpPr>
          <a:xfrm>
            <a:off x="0" y="142920"/>
            <a:ext cx="8997840" cy="6572160"/>
            <a:chOff x="0" y="142920"/>
            <a:chExt cx="8997840" cy="6572160"/>
          </a:xfrm>
        </p:grpSpPr>
        <p:sp>
          <p:nvSpPr>
            <p:cNvPr id="723" name="AutoShape 2"/>
            <p:cNvSpPr/>
            <p:nvPr/>
          </p:nvSpPr>
          <p:spPr>
            <a:xfrm>
              <a:off x="285480" y="500040"/>
              <a:ext cx="8640720" cy="10713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4" name="AutoShape 4"/>
            <p:cNvSpPr/>
            <p:nvPr/>
          </p:nvSpPr>
          <p:spPr>
            <a:xfrm>
              <a:off x="357120" y="142920"/>
              <a:ext cx="435780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5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고령친화산업의 과제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5" name="Text Box 25"/>
            <p:cNvSpPr/>
            <p:nvPr/>
          </p:nvSpPr>
          <p:spPr>
            <a:xfrm>
              <a:off x="357120" y="780840"/>
              <a:ext cx="814392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 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 수요 및 민간기업의 참여 증가 등으로 실버마케팅 관심 증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그러나 다양한 장애요인으로 민간부문에서는 관망하며 참여 준비 중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26" name="그룹 12"/>
            <p:cNvGrpSpPr/>
            <p:nvPr/>
          </p:nvGrpSpPr>
          <p:grpSpPr>
            <a:xfrm>
              <a:off x="0" y="5816520"/>
              <a:ext cx="8501040" cy="898560"/>
              <a:chOff x="0" y="5816520"/>
              <a:chExt cx="8501040" cy="898560"/>
            </a:xfrm>
          </p:grpSpPr>
          <p:pic>
            <p:nvPicPr>
              <p:cNvPr id="727" name="Picture 4" descr="C:\DOCUME~1\USER\LOCALS~1\Temp\UNI000006c8818c.gif"/>
              <p:cNvPicPr/>
              <p:nvPr/>
            </p:nvPicPr>
            <p:blipFill>
              <a:blip r:embed="rId3"/>
              <a:stretch/>
            </p:blipFill>
            <p:spPr>
              <a:xfrm>
                <a:off x="0" y="5816520"/>
                <a:ext cx="1122480" cy="89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8" name="Rectangle 4"/>
              <p:cNvSpPr/>
              <p:nvPr/>
            </p:nvSpPr>
            <p:spPr>
              <a:xfrm>
                <a:off x="961920" y="6000480"/>
                <a:ext cx="753912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1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노년기의 사회관계망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29" name="그룹 8"/>
            <p:cNvGrpSpPr/>
            <p:nvPr/>
          </p:nvGrpSpPr>
          <p:grpSpPr>
            <a:xfrm>
              <a:off x="285480" y="1674720"/>
              <a:ext cx="8712360" cy="4067640"/>
              <a:chOff x="285480" y="1674720"/>
              <a:chExt cx="8712360" cy="4067640"/>
            </a:xfrm>
          </p:grpSpPr>
          <p:sp>
            <p:nvSpPr>
              <p:cNvPr id="730" name="AutoShape 2"/>
              <p:cNvSpPr/>
              <p:nvPr/>
            </p:nvSpPr>
            <p:spPr>
              <a:xfrm>
                <a:off x="285480" y="2071440"/>
                <a:ext cx="8641080" cy="3663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31" name="Text Box 6"/>
              <p:cNvSpPr/>
              <p:nvPr/>
            </p:nvSpPr>
            <p:spPr>
              <a:xfrm>
                <a:off x="356760" y="2168280"/>
                <a:ext cx="8641080" cy="357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재정 확대를 통한 국민의 최저생활 보장과 복지증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에 대한 국가책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 낮은 상태에서 민영화 추진시 노인복지의 양극화로 인한 복지차별의 심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능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친화산업의 육성과 국가 지원 강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친화산업진흥법 제정으로 기반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구축되었으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아직 가시적 효과 나타나지 않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친화산업에 대한 규제장치 마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서비스나 상품의 질 불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사기사건과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악덕상술 피해 증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따라서 실버서비스 윤리강령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친화우수제품 지정 제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도입을 통한 지도감독 강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친화서비스 소비자의 권리의식 증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단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비자단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민단체 등과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협력하여 소비자의 권리 향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32" name="직사각형 14"/>
              <p:cNvSpPr/>
              <p:nvPr/>
            </p:nvSpPr>
            <p:spPr>
              <a:xfrm>
                <a:off x="318600" y="1674720"/>
                <a:ext cx="507204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고령친화산업 활성화 방안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0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551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2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53" name="Line 9"/>
          <p:cNvSpPr/>
          <p:nvPr/>
        </p:nvSpPr>
        <p:spPr>
          <a:xfrm flipV="1">
            <a:off x="0" y="3428640"/>
            <a:ext cx="857160" cy="50004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4" name="Line 12"/>
          <p:cNvSpPr/>
          <p:nvPr/>
        </p:nvSpPr>
        <p:spPr>
          <a:xfrm>
            <a:off x="0" y="4071960"/>
            <a:ext cx="928800" cy="4287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5" name="Line 64"/>
          <p:cNvSpPr/>
          <p:nvPr/>
        </p:nvSpPr>
        <p:spPr>
          <a:xfrm>
            <a:off x="0" y="4143240"/>
            <a:ext cx="785880" cy="1143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6" name="Line 9"/>
          <p:cNvSpPr/>
          <p:nvPr/>
        </p:nvSpPr>
        <p:spPr>
          <a:xfrm flipV="1">
            <a:off x="0" y="2643120"/>
            <a:ext cx="857160" cy="12081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7" name="Group 44"/>
          <p:cNvGrpSpPr/>
          <p:nvPr/>
        </p:nvGrpSpPr>
        <p:grpSpPr>
          <a:xfrm>
            <a:off x="642960" y="2097000"/>
            <a:ext cx="8199360" cy="3543840"/>
            <a:chOff x="642960" y="2097000"/>
            <a:chExt cx="8199360" cy="3543840"/>
          </a:xfrm>
        </p:grpSpPr>
        <p:sp>
          <p:nvSpPr>
            <p:cNvPr id="558" name="AutoShape 4"/>
            <p:cNvSpPr/>
            <p:nvPr/>
          </p:nvSpPr>
          <p:spPr>
            <a:xfrm>
              <a:off x="1622520" y="2097000"/>
              <a:ext cx="7199280" cy="6706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노년기 주거환경의 의미와 노인을 위한 주거계획 이해 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9" name="Group 14"/>
            <p:cNvGrpSpPr/>
            <p:nvPr/>
          </p:nvGrpSpPr>
          <p:grpSpPr>
            <a:xfrm>
              <a:off x="642960" y="2116440"/>
              <a:ext cx="856800" cy="714600"/>
              <a:chOff x="642960" y="2116440"/>
              <a:chExt cx="856800" cy="714600"/>
            </a:xfrm>
          </p:grpSpPr>
          <p:sp>
            <p:nvSpPr>
              <p:cNvPr id="560" name="Oval 15"/>
              <p:cNvSpPr/>
              <p:nvPr/>
            </p:nvSpPr>
            <p:spPr>
              <a:xfrm>
                <a:off x="664200" y="21164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4200" y="211824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62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21204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3" name="Text Box 18"/>
              <p:cNvSpPr/>
              <p:nvPr/>
            </p:nvSpPr>
            <p:spPr>
              <a:xfrm>
                <a:off x="642960" y="2122560"/>
                <a:ext cx="85680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64" name="Group 14"/>
            <p:cNvGrpSpPr/>
            <p:nvPr/>
          </p:nvGrpSpPr>
          <p:grpSpPr>
            <a:xfrm>
              <a:off x="642960" y="3053160"/>
              <a:ext cx="856800" cy="714600"/>
              <a:chOff x="642960" y="3053160"/>
              <a:chExt cx="856800" cy="714600"/>
            </a:xfrm>
          </p:grpSpPr>
          <p:sp>
            <p:nvSpPr>
              <p:cNvPr id="565" name="Oval 15"/>
              <p:cNvSpPr/>
              <p:nvPr/>
            </p:nvSpPr>
            <p:spPr>
              <a:xfrm>
                <a:off x="664200" y="30531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6" name="Oval 16"/>
              <p:cNvSpPr/>
              <p:nvPr/>
            </p:nvSpPr>
            <p:spPr>
              <a:xfrm>
                <a:off x="664200" y="30549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67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30571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8" name="Text Box 18"/>
              <p:cNvSpPr/>
              <p:nvPr/>
            </p:nvSpPr>
            <p:spPr>
              <a:xfrm>
                <a:off x="642960" y="3057120"/>
                <a:ext cx="85680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69" name="Group 14"/>
            <p:cNvGrpSpPr/>
            <p:nvPr/>
          </p:nvGrpSpPr>
          <p:grpSpPr>
            <a:xfrm>
              <a:off x="642960" y="3991320"/>
              <a:ext cx="856800" cy="714600"/>
              <a:chOff x="642960" y="3991320"/>
              <a:chExt cx="856800" cy="714600"/>
            </a:xfrm>
          </p:grpSpPr>
          <p:sp>
            <p:nvSpPr>
              <p:cNvPr id="570" name="Oval 15"/>
              <p:cNvSpPr/>
              <p:nvPr/>
            </p:nvSpPr>
            <p:spPr>
              <a:xfrm>
                <a:off x="664200" y="3991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1" name="Oval 16"/>
              <p:cNvSpPr/>
              <p:nvPr/>
            </p:nvSpPr>
            <p:spPr>
              <a:xfrm>
                <a:off x="664200" y="39931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72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9952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3" name="Text Box 18"/>
              <p:cNvSpPr/>
              <p:nvPr/>
            </p:nvSpPr>
            <p:spPr>
              <a:xfrm>
                <a:off x="642960" y="3995280"/>
                <a:ext cx="85680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74" name="Group 14"/>
            <p:cNvGrpSpPr/>
            <p:nvPr/>
          </p:nvGrpSpPr>
          <p:grpSpPr>
            <a:xfrm>
              <a:off x="642960" y="4924800"/>
              <a:ext cx="856800" cy="716040"/>
              <a:chOff x="642960" y="4924800"/>
              <a:chExt cx="856800" cy="716040"/>
            </a:xfrm>
          </p:grpSpPr>
          <p:sp>
            <p:nvSpPr>
              <p:cNvPr id="575" name="Oval 15"/>
              <p:cNvSpPr/>
              <p:nvPr/>
            </p:nvSpPr>
            <p:spPr>
              <a:xfrm>
                <a:off x="664200" y="4924800"/>
                <a:ext cx="777600" cy="44856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6" name="Oval 16"/>
              <p:cNvSpPr/>
              <p:nvPr/>
            </p:nvSpPr>
            <p:spPr>
              <a:xfrm>
                <a:off x="664200" y="4928760"/>
                <a:ext cx="777600" cy="7120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77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93092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8" name="Text Box 18"/>
              <p:cNvSpPr/>
              <p:nvPr/>
            </p:nvSpPr>
            <p:spPr>
              <a:xfrm>
                <a:off x="642960" y="49309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79" name="AutoShape 4"/>
            <p:cNvSpPr/>
            <p:nvPr/>
          </p:nvSpPr>
          <p:spPr>
            <a:xfrm>
              <a:off x="1643040" y="303372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노인의 주거실태와 문제점 이해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개선방안 모색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0" name="AutoShape 4"/>
            <p:cNvSpPr/>
            <p:nvPr/>
          </p:nvSpPr>
          <p:spPr>
            <a:xfrm>
              <a:off x="1622520" y="397044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노인복지시설 유형</a:t>
              </a: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설계</a:t>
              </a: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관리운영 및 평가체계 이해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1" name="AutoShape 4"/>
            <p:cNvSpPr/>
            <p:nvPr/>
          </p:nvSpPr>
          <p:spPr>
            <a:xfrm>
              <a:off x="1643040" y="4907520"/>
              <a:ext cx="7199280" cy="6760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고령친화산업의 특성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분야의 이해와 발전방안 모색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82" name="AutoShape 7"/>
          <p:cNvSpPr/>
          <p:nvPr/>
        </p:nvSpPr>
        <p:spPr>
          <a:xfrm>
            <a:off x="250920" y="1353960"/>
            <a:ext cx="1606320" cy="4320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856800" y="274680"/>
            <a:ext cx="82868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제</a:t>
            </a:r>
            <a:r>
              <a:rPr b="1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7 </a:t>
            </a:r>
            <a:r>
              <a:rPr b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장 노년기 주거생활과 고령친화산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4" name="그룹 18"/>
          <p:cNvGrpSpPr/>
          <p:nvPr/>
        </p:nvGrpSpPr>
        <p:grpSpPr>
          <a:xfrm>
            <a:off x="0" y="0"/>
            <a:ext cx="9144000" cy="6429240"/>
            <a:chOff x="0" y="0"/>
            <a:chExt cx="9144000" cy="6429240"/>
          </a:xfrm>
        </p:grpSpPr>
        <p:sp>
          <p:nvSpPr>
            <p:cNvPr id="585" name="AutoShape 2"/>
            <p:cNvSpPr/>
            <p:nvPr/>
          </p:nvSpPr>
          <p:spPr>
            <a:xfrm>
              <a:off x="180720" y="2714400"/>
              <a:ext cx="8820360" cy="2286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86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년기 주거환경의 중요성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88" name="그룹 18"/>
            <p:cNvGrpSpPr/>
            <p:nvPr/>
          </p:nvGrpSpPr>
          <p:grpSpPr>
            <a:xfrm>
              <a:off x="180720" y="928440"/>
              <a:ext cx="8963280" cy="1285920"/>
              <a:chOff x="180720" y="928440"/>
              <a:chExt cx="8963280" cy="1285920"/>
            </a:xfrm>
          </p:grpSpPr>
          <p:sp>
            <p:nvSpPr>
              <p:cNvPr id="589" name="AutoShape 2"/>
              <p:cNvSpPr/>
              <p:nvPr/>
            </p:nvSpPr>
            <p:spPr>
              <a:xfrm>
                <a:off x="180720" y="1428480"/>
                <a:ext cx="8820720" cy="785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90" name="그룹 10"/>
              <p:cNvGrpSpPr/>
              <p:nvPr/>
            </p:nvGrpSpPr>
            <p:grpSpPr>
              <a:xfrm>
                <a:off x="213840" y="928440"/>
                <a:ext cx="8930160" cy="1234440"/>
                <a:chOff x="213840" y="928440"/>
                <a:chExt cx="8930160" cy="1234440"/>
              </a:xfrm>
            </p:grpSpPr>
            <p:sp>
              <p:nvSpPr>
                <p:cNvPr id="591" name="AutoShape 29"/>
                <p:cNvSpPr/>
                <p:nvPr/>
              </p:nvSpPr>
              <p:spPr>
                <a:xfrm>
                  <a:off x="213840" y="928440"/>
                  <a:ext cx="8573040" cy="42876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71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300" spc="-1" strike="noStrike">
                      <a:solidFill>
                        <a:srgbClr val="c00000"/>
                      </a:solidFill>
                      <a:latin typeface="HY강B"/>
                    </a:rPr>
                    <a:t>  </a:t>
                  </a:r>
                  <a:r>
                    <a:rPr b="0" lang="ko-KR" sz="2300" spc="-1" strike="noStrike">
                      <a:solidFill>
                        <a:srgbClr val="c00000"/>
                      </a:solidFill>
                      <a:latin typeface="HY강B"/>
                    </a:rPr>
                    <a:t>노년기에 주거환경이 중요한 이유</a:t>
                  </a:r>
                  <a:endParaRPr b="0" lang="en-US" sz="23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92" name="Text Box 25"/>
                <p:cNvSpPr/>
                <p:nvPr/>
              </p:nvSpPr>
              <p:spPr>
                <a:xfrm>
                  <a:off x="213840" y="1428480"/>
                  <a:ext cx="8930160" cy="73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관계망과 생활영역의 축소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고독과 소외 가능성 증가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신체기능 및  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ADL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의 저하로 인한 독립적 생활의 제한과 환경에 대한 적응능력 저하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93" name="그룹 10"/>
            <p:cNvGrpSpPr/>
            <p:nvPr/>
          </p:nvGrpSpPr>
          <p:grpSpPr>
            <a:xfrm>
              <a:off x="214200" y="2225520"/>
              <a:ext cx="8786880" cy="2762640"/>
              <a:chOff x="214200" y="2225520"/>
              <a:chExt cx="8786880" cy="2762640"/>
            </a:xfrm>
          </p:grpSpPr>
          <p:sp>
            <p:nvSpPr>
              <p:cNvPr id="594" name="AutoShape 29"/>
              <p:cNvSpPr/>
              <p:nvPr/>
            </p:nvSpPr>
            <p:spPr>
              <a:xfrm>
                <a:off x="214200" y="222552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71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HY강B"/>
                  </a:rPr>
                  <a:t>노년기 주거환경의 중요성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5" name="Text Box 25"/>
              <p:cNvSpPr/>
              <p:nvPr/>
            </p:nvSpPr>
            <p:spPr>
              <a:xfrm>
                <a:off x="214200" y="2725560"/>
                <a:ext cx="8786880" cy="226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985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된 생활영역이 가정환경으로 축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택의 소득보장 기능과 주거비용 부담의 감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동일 주택 장기거주 시 사회관계망과 사회적 지위 유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생활의 자유를 공간적으로 확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생에 걸친 추억과 경험의 연속성 유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계획 주거환경으로 신체기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ADL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저하 보완과 안전한 물리환경 확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96" name="그룹 18"/>
            <p:cNvGrpSpPr/>
            <p:nvPr/>
          </p:nvGrpSpPr>
          <p:grpSpPr>
            <a:xfrm>
              <a:off x="180720" y="5010120"/>
              <a:ext cx="8963280" cy="1419120"/>
              <a:chOff x="180720" y="5010120"/>
              <a:chExt cx="8963280" cy="1419120"/>
            </a:xfrm>
          </p:grpSpPr>
          <p:sp>
            <p:nvSpPr>
              <p:cNvPr id="597" name="AutoShape 2"/>
              <p:cNvSpPr/>
              <p:nvPr/>
            </p:nvSpPr>
            <p:spPr>
              <a:xfrm>
                <a:off x="180720" y="5438880"/>
                <a:ext cx="8820720" cy="9903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98" name="그룹 10"/>
              <p:cNvGrpSpPr/>
              <p:nvPr/>
            </p:nvGrpSpPr>
            <p:grpSpPr>
              <a:xfrm>
                <a:off x="213840" y="5010120"/>
                <a:ext cx="8930160" cy="1411200"/>
                <a:chOff x="213840" y="5010120"/>
                <a:chExt cx="8930160" cy="1411200"/>
              </a:xfrm>
            </p:grpSpPr>
            <p:sp>
              <p:nvSpPr>
                <p:cNvPr id="599" name="AutoShape 29"/>
                <p:cNvSpPr/>
                <p:nvPr/>
              </p:nvSpPr>
              <p:spPr>
                <a:xfrm>
                  <a:off x="213840" y="5010120"/>
                  <a:ext cx="8573040" cy="42840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71"/>
                    <a:buBlip>
                      <a:blip r:embed="rId1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300" spc="-1" strike="noStrike">
                      <a:solidFill>
                        <a:srgbClr val="c00000"/>
                      </a:solidFill>
                      <a:latin typeface="HY강B"/>
                    </a:rPr>
                    <a:t>  </a:t>
                  </a:r>
                  <a:r>
                    <a:rPr b="0" lang="ko-KR" sz="2300" spc="-1" strike="noStrike">
                      <a:solidFill>
                        <a:srgbClr val="c00000"/>
                      </a:solidFill>
                      <a:latin typeface="HY강B"/>
                    </a:rPr>
                    <a:t>노년기 주거문제에 대한 사회적 대응</a:t>
                  </a:r>
                  <a:endParaRPr b="0" lang="en-US" sz="23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600" name="Text Box 25"/>
                <p:cNvSpPr/>
                <p:nvPr/>
              </p:nvSpPr>
              <p:spPr>
                <a:xfrm>
                  <a:off x="213840" y="5397480"/>
                  <a:ext cx="8930160" cy="102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792"/>
                    <a:buBlip>
                      <a:blip r:embed="rId1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제 및 건강수준 약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가족동거부양 기능 약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높은 주택가격으로 주거문제 심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되고 있으나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주거문제는 노인 자신이나 가족이 해결해야 한다는 인식이 팽배하여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주거보장에 대한 사회적 관심은 매우 낮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1" name="그룹 8"/>
          <p:cNvGrpSpPr/>
          <p:nvPr/>
        </p:nvGrpSpPr>
        <p:grpSpPr>
          <a:xfrm>
            <a:off x="0" y="0"/>
            <a:ext cx="9144000" cy="6214680"/>
            <a:chOff x="0" y="0"/>
            <a:chExt cx="9144000" cy="6214680"/>
          </a:xfrm>
        </p:grpSpPr>
        <p:sp>
          <p:nvSpPr>
            <p:cNvPr id="602" name="AutoShape 2"/>
            <p:cNvSpPr/>
            <p:nvPr/>
          </p:nvSpPr>
          <p:spPr>
            <a:xfrm>
              <a:off x="285480" y="1357200"/>
              <a:ext cx="8715600" cy="4857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60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04" name="그룹 10"/>
            <p:cNvGrpSpPr/>
            <p:nvPr/>
          </p:nvGrpSpPr>
          <p:grpSpPr>
            <a:xfrm>
              <a:off x="285480" y="785520"/>
              <a:ext cx="8715600" cy="5392800"/>
              <a:chOff x="285480" y="785520"/>
              <a:chExt cx="8715600" cy="5392800"/>
            </a:xfrm>
          </p:grpSpPr>
          <p:sp>
            <p:nvSpPr>
              <p:cNvPr id="605" name="AutoShape 4"/>
              <p:cNvSpPr/>
              <p:nvPr/>
            </p:nvSpPr>
            <p:spPr>
              <a:xfrm>
                <a:off x="285480" y="785520"/>
                <a:ext cx="428652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1) 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인 주거형태 분류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6" name="Text Box 6"/>
              <p:cNvSpPr/>
              <p:nvPr/>
            </p:nvSpPr>
            <p:spPr>
              <a:xfrm>
                <a:off x="356760" y="1557000"/>
                <a:ext cx="8644320" cy="462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형태 분류기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령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ADL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필요한 의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서비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입주방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형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독립거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서비스형 거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시설 거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료시설 거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시 거주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-1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독립거주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장 일반적 주거형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하고 서비스 필요성 낮은 노인의 거주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형태이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반주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3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대주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자 주택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-2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서비스형 거주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 등의 서비스를 제공하는 시설에서 공동생활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할지라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도 개인생활이 보장되는 형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법상의 노인복지주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복지시설 거주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호적 환경에서 집단생활을 하는 형태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로시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요양시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요양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동생활가정 등이 포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의료시설 거주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질병치료와 간호를 목적으로 한 의료서비스가 중점 제공되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 거주 형태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병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맑은 고딕"/>
                    <a:ea typeface="맑은 고딕"/>
                  </a:rPr>
                  <a:t>ㆍ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요양병원이 포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일시 거주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기간 동안 숙식이나 기타 필요서비스를 제공하는 주거형태로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법상 단기보호시설이 포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07" name="Rectangle 2"/>
            <p:cNvSpPr/>
            <p:nvPr/>
          </p:nvSpPr>
          <p:spPr>
            <a:xfrm>
              <a:off x="1428480" y="7128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년기의 주거형태와 현실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그룹 6"/>
          <p:cNvGrpSpPr/>
          <p:nvPr/>
        </p:nvGrpSpPr>
        <p:grpSpPr>
          <a:xfrm>
            <a:off x="71280" y="357120"/>
            <a:ext cx="9001440" cy="6514560"/>
            <a:chOff x="71280" y="357120"/>
            <a:chExt cx="9001440" cy="6514560"/>
          </a:xfrm>
        </p:grpSpPr>
        <p:sp>
          <p:nvSpPr>
            <p:cNvPr id="609" name="AutoShape 2"/>
            <p:cNvSpPr/>
            <p:nvPr/>
          </p:nvSpPr>
          <p:spPr>
            <a:xfrm>
              <a:off x="71280" y="785520"/>
              <a:ext cx="9001440" cy="5594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10" name="그룹 10"/>
            <p:cNvGrpSpPr/>
            <p:nvPr/>
          </p:nvGrpSpPr>
          <p:grpSpPr>
            <a:xfrm>
              <a:off x="213840" y="357120"/>
              <a:ext cx="8787240" cy="6514560"/>
              <a:chOff x="213840" y="357120"/>
              <a:chExt cx="8787240" cy="6514560"/>
            </a:xfrm>
          </p:grpSpPr>
          <p:sp>
            <p:nvSpPr>
              <p:cNvPr id="611" name="AutoShape 4"/>
              <p:cNvSpPr/>
              <p:nvPr/>
            </p:nvSpPr>
            <p:spPr>
              <a:xfrm>
                <a:off x="285120" y="357120"/>
                <a:ext cx="493416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 주거실태와 생활환경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2" name="Text Box 6"/>
              <p:cNvSpPr/>
              <p:nvPr/>
            </p:nvSpPr>
            <p:spPr>
              <a:xfrm>
                <a:off x="213840" y="1099800"/>
                <a:ext cx="8787240" cy="577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시설 입소 정원은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8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,500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명이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기요양보험제도 시행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으로 입소 인원이 증가하고 있으나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97.8%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 지역사회에 거주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자녀 동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별거실태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동거율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%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도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노인의 동거율 높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택형태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아파트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8%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독주택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5%,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다세대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5%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공동주택 형태 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택소유상태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80%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 본인 또는 자녀 명의 자가 소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전세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%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월세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%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택설비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하 또는 반지하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.2%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방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화장실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욕실 등 개조 필요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거편의도와 만족도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설비 불편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간 협소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방음 채광문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관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용 부담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안전관리 문제 등으로 인해 주거편의도와 만족도가 낮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래주거계획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 동거 비율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21%)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소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부 또는 독신 거주 비율 증가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시설 입소 희망 비율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%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준 유지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-1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생활환경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건의료기관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통시설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필품구매시설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원은 접근도 높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관 접근도가 가장 낮으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농촌지역의 시설접근도가 더욱 낮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역사회생활환경에 대한 만족도 역시 낮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AutoShape 2"/>
          <p:cNvSpPr/>
          <p:nvPr/>
        </p:nvSpPr>
        <p:spPr>
          <a:xfrm>
            <a:off x="609480" y="2071800"/>
            <a:ext cx="8105760" cy="1214280"/>
          </a:xfrm>
          <a:prstGeom prst="roundRect">
            <a:avLst>
              <a:gd name="adj" fmla="val 20037"/>
            </a:avLst>
          </a:prstGeom>
          <a:solidFill>
            <a:srgbClr val="ff6600">
              <a:alpha val="10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14" name="그림 3" descr="titl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214280"/>
          </a:xfrm>
          <a:prstGeom prst="rect">
            <a:avLst/>
          </a:prstGeom>
          <a:ln w="0">
            <a:noFill/>
          </a:ln>
        </p:spPr>
      </p:pic>
      <p:sp>
        <p:nvSpPr>
          <p:cNvPr id="615" name="AutoShape 29"/>
          <p:cNvSpPr/>
          <p:nvPr/>
        </p:nvSpPr>
        <p:spPr>
          <a:xfrm>
            <a:off x="214200" y="1643040"/>
            <a:ext cx="8572680" cy="428760"/>
          </a:xfrm>
          <a:prstGeom prst="roundRect">
            <a:avLst>
              <a:gd name="adj" fmla="val 137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c00000"/>
                </a:solidFill>
                <a:latin typeface="HY강B"/>
              </a:rPr>
              <a:t>  </a:t>
            </a:r>
            <a:r>
              <a:rPr b="0" lang="ko-KR" sz="2400" spc="-1" strike="noStrike">
                <a:solidFill>
                  <a:srgbClr val="c00000"/>
                </a:solidFill>
                <a:latin typeface="HY강B"/>
              </a:rPr>
              <a:t>주거환경 계획의 필요성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6" name="Text Box 25"/>
          <p:cNvSpPr/>
          <p:nvPr/>
        </p:nvSpPr>
        <p:spPr>
          <a:xfrm>
            <a:off x="719280" y="2116080"/>
            <a:ext cx="6424560" cy="11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74578"/>
                </a:solidFill>
                <a:latin typeface="HY강M"/>
                <a:ea typeface="HY강M"/>
              </a:rPr>
              <a:t> </a:t>
            </a:r>
            <a:r>
              <a:rPr b="0" lang="ko-KR" sz="2000" spc="-1" strike="noStrike">
                <a:solidFill>
                  <a:srgbClr val="174578"/>
                </a:solidFill>
                <a:latin typeface="HY강M"/>
                <a:ea typeface="HY강M"/>
              </a:rPr>
              <a:t>노화로 인한 기능 저하의 보완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74578"/>
                </a:solidFill>
                <a:latin typeface="HY강M"/>
                <a:ea typeface="HY강M"/>
              </a:rPr>
              <a:t> </a:t>
            </a:r>
            <a:r>
              <a:rPr b="0" lang="ko-KR" sz="2000" spc="-1" strike="noStrike">
                <a:solidFill>
                  <a:srgbClr val="174578"/>
                </a:solidFill>
                <a:latin typeface="HY강M"/>
                <a:ea typeface="HY강M"/>
              </a:rPr>
              <a:t>독립적이고 안전한 주거환경 구축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74578"/>
                </a:solidFill>
                <a:latin typeface="HY강M"/>
                <a:ea typeface="HY강M"/>
              </a:rPr>
              <a:t> </a:t>
            </a:r>
            <a:r>
              <a:rPr b="0" lang="ko-KR" sz="2000" spc="-1" strike="noStrike">
                <a:solidFill>
                  <a:srgbClr val="174578"/>
                </a:solidFill>
                <a:latin typeface="HY강M"/>
                <a:ea typeface="HY강M"/>
              </a:rPr>
              <a:t>사생활 유지 및 사회적 관계망의 유지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7" name="AutoShape 7"/>
          <p:cNvSpPr/>
          <p:nvPr/>
        </p:nvSpPr>
        <p:spPr>
          <a:xfrm>
            <a:off x="285840" y="1071720"/>
            <a:ext cx="628632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e81e0"/>
              </a:gs>
              <a:gs pos="100000">
                <a:srgbClr val="333c68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cacac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Y강B"/>
              </a:rPr>
              <a:t>1) </a:t>
            </a:r>
            <a:r>
              <a:rPr b="0" lang="ko-KR" sz="2600" spc="-1" strike="noStrike">
                <a:solidFill>
                  <a:srgbClr val="ffffff"/>
                </a:solidFill>
                <a:latin typeface="HY강B"/>
              </a:rPr>
              <a:t>노인을 위한 주거환경 계획의 원칙</a:t>
            </a:r>
            <a:endParaRPr b="0" lang="en-US" sz="2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8" name="AutoShape 2"/>
          <p:cNvSpPr/>
          <p:nvPr/>
        </p:nvSpPr>
        <p:spPr>
          <a:xfrm>
            <a:off x="609480" y="3863880"/>
            <a:ext cx="8105760" cy="2643120"/>
          </a:xfrm>
          <a:prstGeom prst="roundRect">
            <a:avLst>
              <a:gd name="adj" fmla="val 16667"/>
            </a:avLst>
          </a:prstGeom>
          <a:solidFill>
            <a:srgbClr val="ff6600">
              <a:alpha val="10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619" name="그룹 10"/>
          <p:cNvGrpSpPr/>
          <p:nvPr/>
        </p:nvGrpSpPr>
        <p:grpSpPr>
          <a:xfrm>
            <a:off x="285840" y="3448080"/>
            <a:ext cx="8715240" cy="3024360"/>
            <a:chOff x="285840" y="3448080"/>
            <a:chExt cx="8715240" cy="3024360"/>
          </a:xfrm>
        </p:grpSpPr>
        <p:sp>
          <p:nvSpPr>
            <p:cNvPr id="620" name="AutoShape 29"/>
            <p:cNvSpPr/>
            <p:nvPr/>
          </p:nvSpPr>
          <p:spPr>
            <a:xfrm>
              <a:off x="285840" y="3448080"/>
              <a:ext cx="8572680" cy="42840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84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주거환경 계획의 원칙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1" name="Text Box 25"/>
            <p:cNvSpPr/>
            <p:nvPr/>
          </p:nvSpPr>
          <p:spPr>
            <a:xfrm>
              <a:off x="714240" y="3863880"/>
              <a:ext cx="8286840" cy="260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거의 연속성 보장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존성 최소화 및 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ADL 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수준에 맞는 기능적 환경 구축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SzPct val="10279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안전한 환경 조성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SzPct val="10279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생물학적 쾌적성 유지와 건강 지원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SzPct val="10279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barrier-free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환경의 구축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SzPct val="102792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간조직과 동선의 단순화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방향감각과 이해력 증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SzPct val="102792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상호작용의 자극과 서비스 접근성 최대화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22" name="Rectangle 2"/>
          <p:cNvSpPr/>
          <p:nvPr/>
        </p:nvSpPr>
        <p:spPr>
          <a:xfrm>
            <a:off x="1428840" y="285840"/>
            <a:ext cx="6858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HY강B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HY강B"/>
              </a:rPr>
              <a:t>3.</a:t>
            </a:r>
            <a:r>
              <a:rPr b="1" lang="ko-KR" sz="3200" spc="-1" strike="noStrike">
                <a:solidFill>
                  <a:srgbClr val="ffffff"/>
                </a:solidFill>
                <a:latin typeface="HY강B"/>
              </a:rPr>
              <a:t> </a:t>
            </a:r>
            <a:r>
              <a:rPr b="1" lang="ko-KR" sz="3200" spc="-1" strike="noStrike">
                <a:solidFill>
                  <a:srgbClr val="ffffff"/>
                </a:solidFill>
                <a:latin typeface="HY강B"/>
              </a:rPr>
              <a:t>노인을 위한 주거환경의 계획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3" name="그룹 15"/>
          <p:cNvGrpSpPr/>
          <p:nvPr/>
        </p:nvGrpSpPr>
        <p:grpSpPr>
          <a:xfrm>
            <a:off x="285840" y="0"/>
            <a:ext cx="8643960" cy="6524640"/>
            <a:chOff x="285840" y="0"/>
            <a:chExt cx="8643960" cy="6524640"/>
          </a:xfrm>
        </p:grpSpPr>
        <p:grpSp>
          <p:nvGrpSpPr>
            <p:cNvPr id="624" name="그룹 11"/>
            <p:cNvGrpSpPr/>
            <p:nvPr/>
          </p:nvGrpSpPr>
          <p:grpSpPr>
            <a:xfrm>
              <a:off x="285840" y="642600"/>
              <a:ext cx="8643960" cy="5882040"/>
              <a:chOff x="285840" y="642600"/>
              <a:chExt cx="8643960" cy="5882040"/>
            </a:xfrm>
          </p:grpSpPr>
          <p:sp>
            <p:nvSpPr>
              <p:cNvPr id="625" name="AutoShape 2"/>
              <p:cNvSpPr/>
              <p:nvPr/>
            </p:nvSpPr>
            <p:spPr>
              <a:xfrm>
                <a:off x="285840" y="1099080"/>
                <a:ext cx="8643960" cy="5425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6" name="Text Box 6"/>
              <p:cNvSpPr/>
              <p:nvPr/>
            </p:nvSpPr>
            <p:spPr>
              <a:xfrm>
                <a:off x="357120" y="1350360"/>
                <a:ext cx="8572680" cy="47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spcBef>
                    <a:spcPts val="799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출입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통과 유효너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5cm +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유공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0cm +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손잡이는 레버형 손잡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7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바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미끄럼 방지 마감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바닥 높낮이 차 없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불가피한 경우 단차 최소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7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상연락장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거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욕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침실에 관리실 비상연락장치 설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7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현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작감지센서 부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75-85cm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수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평 손잡이 설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사로 설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7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거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1.2m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높이에 비디오폰 설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명은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00-900 Lux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1100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침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명은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00-400 Lux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1100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욕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입구 동작감지센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상하이동 가능 샤워기 설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변기 등 주변 안전손잡이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설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출입문은 밖여닫이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미닫이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미서기문 등으로 설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애인의 경우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좌변기 옆에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5cm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유공간 확보 및 높낮이 조절 가능 세면기 설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7" name="직사각형 7"/>
              <p:cNvSpPr/>
              <p:nvPr/>
            </p:nvSpPr>
            <p:spPr>
              <a:xfrm>
                <a:off x="285840" y="642600"/>
                <a:ext cx="839016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장애인</a:t>
                </a:r>
                <a:r>
                  <a:rPr b="0" lang="en-US" sz="2200" spc="-1" strike="noStrike">
                    <a:solidFill>
                      <a:srgbClr val="c00000"/>
                    </a:solidFill>
                    <a:latin typeface="Arial"/>
                  </a:rPr>
                  <a:t>,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고령자 등 주거약자 지원 법률상의 편의시설 설치기준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28" name="AutoShape 4"/>
            <p:cNvSpPr/>
            <p:nvPr/>
          </p:nvSpPr>
          <p:spPr>
            <a:xfrm>
              <a:off x="357120" y="0"/>
              <a:ext cx="6286680" cy="492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노인을 위한 주택설계의 지침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9" name="그룹 15"/>
          <p:cNvGrpSpPr/>
          <p:nvPr/>
        </p:nvGrpSpPr>
        <p:grpSpPr>
          <a:xfrm>
            <a:off x="285840" y="0"/>
            <a:ext cx="8643960" cy="6296040"/>
            <a:chOff x="285840" y="0"/>
            <a:chExt cx="8643960" cy="6296040"/>
          </a:xfrm>
        </p:grpSpPr>
        <p:grpSp>
          <p:nvGrpSpPr>
            <p:cNvPr id="630" name="그룹 11"/>
            <p:cNvGrpSpPr/>
            <p:nvPr/>
          </p:nvGrpSpPr>
          <p:grpSpPr>
            <a:xfrm>
              <a:off x="285840" y="642960"/>
              <a:ext cx="8643960" cy="2000160"/>
              <a:chOff x="285840" y="642960"/>
              <a:chExt cx="8643960" cy="2000160"/>
            </a:xfrm>
          </p:grpSpPr>
          <p:sp>
            <p:nvSpPr>
              <p:cNvPr id="631" name="AutoShape 2"/>
              <p:cNvSpPr/>
              <p:nvPr/>
            </p:nvSpPr>
            <p:spPr>
              <a:xfrm>
                <a:off x="285840" y="955440"/>
                <a:ext cx="8643960" cy="1687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2" name="Text Box 6"/>
              <p:cNvSpPr/>
              <p:nvPr/>
            </p:nvSpPr>
            <p:spPr>
              <a:xfrm>
                <a:off x="357120" y="1143000"/>
                <a:ext cx="8572680" cy="11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3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 가족형 아파트 공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198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대 후반 서울 상계동에 공급되었지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례 적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전용아파트 등도 역시 법적 문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동상 투기의 장으로 변질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인 차원의 계획 주거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7-3)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민간기업의 실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버타운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7-4)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등 건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3" name="직사각형 7"/>
              <p:cNvSpPr/>
              <p:nvPr/>
            </p:nvSpPr>
            <p:spPr>
              <a:xfrm>
                <a:off x="285840" y="642960"/>
                <a:ext cx="564372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국내 사례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34" name="AutoShape 4"/>
            <p:cNvSpPr/>
            <p:nvPr/>
          </p:nvSpPr>
          <p:spPr>
            <a:xfrm>
              <a:off x="357120" y="0"/>
              <a:ext cx="6286680" cy="492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노인을 위한 계획 주거환경의 사례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35" name="그룹 11"/>
            <p:cNvGrpSpPr/>
            <p:nvPr/>
          </p:nvGrpSpPr>
          <p:grpSpPr>
            <a:xfrm>
              <a:off x="285840" y="2857320"/>
              <a:ext cx="8643960" cy="2071800"/>
              <a:chOff x="285840" y="2857320"/>
              <a:chExt cx="8643960" cy="2071800"/>
            </a:xfrm>
          </p:grpSpPr>
          <p:sp>
            <p:nvSpPr>
              <p:cNvPr id="636" name="AutoShape 2"/>
              <p:cNvSpPr/>
              <p:nvPr/>
            </p:nvSpPr>
            <p:spPr>
              <a:xfrm>
                <a:off x="285840" y="3214440"/>
                <a:ext cx="8643960" cy="1714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7" name="Text Box 6"/>
              <p:cNvSpPr/>
              <p:nvPr/>
            </p:nvSpPr>
            <p:spPr>
              <a:xfrm>
                <a:off x="357120" y="3285720"/>
                <a:ext cx="8501400" cy="157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조합에서 주로 공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부 민간 기업의 분양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임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지별로 방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-2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의 소형주택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-4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호로 구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독주택의 집합단지이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교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탁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손님 맞이방 등은 공동시설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상태에 따라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, 2, 2.5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범주로 구분하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각기 다른 서비스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8" name="직사각형 14"/>
              <p:cNvSpPr/>
              <p:nvPr/>
            </p:nvSpPr>
            <p:spPr>
              <a:xfrm>
                <a:off x="285840" y="2857320"/>
                <a:ext cx="564372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영국사례</a:t>
                </a:r>
                <a:r>
                  <a:rPr b="0" lang="en-US" sz="2200" spc="-1" strike="noStrike">
                    <a:solidFill>
                      <a:srgbClr val="c00000"/>
                    </a:solidFill>
                    <a:latin typeface="Arial"/>
                  </a:rPr>
                  <a:t>: sheltered housing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39" name="그룹 15"/>
            <p:cNvGrpSpPr/>
            <p:nvPr/>
          </p:nvGrpSpPr>
          <p:grpSpPr>
            <a:xfrm>
              <a:off x="285840" y="5072040"/>
              <a:ext cx="8643960" cy="1224000"/>
              <a:chOff x="285840" y="5072040"/>
              <a:chExt cx="8643960" cy="1224000"/>
            </a:xfrm>
          </p:grpSpPr>
          <p:sp>
            <p:nvSpPr>
              <p:cNvPr id="640" name="AutoShape 2"/>
              <p:cNvSpPr/>
              <p:nvPr/>
            </p:nvSpPr>
            <p:spPr>
              <a:xfrm>
                <a:off x="285840" y="5430960"/>
                <a:ext cx="8643960" cy="8650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41" name="Text Box 6"/>
              <p:cNvSpPr/>
              <p:nvPr/>
            </p:nvSpPr>
            <p:spPr>
              <a:xfrm>
                <a:off x="357120" y="5503680"/>
                <a:ext cx="8501400" cy="74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은퇴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집합주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지공유주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유주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하숙주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에코주택 등으로 그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형태가 매우 다양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상세 내용 교재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232-233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42" name="직사각형 18"/>
              <p:cNvSpPr/>
              <p:nvPr/>
            </p:nvSpPr>
            <p:spPr>
              <a:xfrm>
                <a:off x="285840" y="5072040"/>
                <a:ext cx="564372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미국 사례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3" name="그룹 7"/>
          <p:cNvGrpSpPr/>
          <p:nvPr/>
        </p:nvGrpSpPr>
        <p:grpSpPr>
          <a:xfrm>
            <a:off x="0" y="0"/>
            <a:ext cx="9144000" cy="6453360"/>
            <a:chOff x="0" y="0"/>
            <a:chExt cx="9144000" cy="6453360"/>
          </a:xfrm>
        </p:grpSpPr>
        <p:pic>
          <p:nvPicPr>
            <p:cNvPr id="644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214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45" name="그룹 20"/>
            <p:cNvGrpSpPr/>
            <p:nvPr/>
          </p:nvGrpSpPr>
          <p:grpSpPr>
            <a:xfrm>
              <a:off x="357120" y="1556640"/>
              <a:ext cx="8786880" cy="4896720"/>
              <a:chOff x="357120" y="1556640"/>
              <a:chExt cx="8786880" cy="4896720"/>
            </a:xfrm>
          </p:grpSpPr>
          <p:sp>
            <p:nvSpPr>
              <p:cNvPr id="646" name="AutoShape 2"/>
              <p:cNvSpPr/>
              <p:nvPr/>
            </p:nvSpPr>
            <p:spPr>
              <a:xfrm>
                <a:off x="357120" y="1556640"/>
                <a:ext cx="8786880" cy="4896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47" name="Text Box 25"/>
              <p:cNvSpPr/>
              <p:nvPr/>
            </p:nvSpPr>
            <p:spPr>
              <a:xfrm>
                <a:off x="461880" y="1685520"/>
                <a:ext cx="8502840" cy="45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장애 또는 주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관계 등의 생활조건상의 곤란과 가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 부양능력 제한으로 가정에서 계속 생활할 수 없는 경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러한 문제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해결을 도모하는 대안적 노인 주거형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시설의 종류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거복지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료복지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가복지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가노인복지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보호전문기관으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거복지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료복지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기보호서비스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학대피해노인 전용쉼터만이 주거기능을 갖춤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시설 종류 및 설치 목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-3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발달사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선시대 기로소에서 찾을 수 있으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1921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서울 동작동의 천주교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양로원 최초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198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8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 양로시설에 불과했으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장기요양제도 시행 후 급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시설 운영 현황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-4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및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www.longtermcare.or.kr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50000"/>
                  </a:lnSpc>
                  <a:spcBef>
                    <a:spcPts val="1800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장기요양보장제도의 실시로 의료복지시설은 지속적으로 증가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50000"/>
                  </a:lnSpc>
                  <a:spcBef>
                    <a:spcPts val="18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거복지시설은 줄어드는 추세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48" name="Rectangle 2"/>
            <p:cNvSpPr/>
            <p:nvPr/>
          </p:nvSpPr>
          <p:spPr>
            <a:xfrm>
              <a:off x="1428480" y="28548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HY강B"/>
                </a:rPr>
                <a:t>4.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노인복지시설</a:t>
              </a:r>
              <a:endParaRPr b="0" lang="en-US" sz="3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9" name="AutoShape 7"/>
            <p:cNvSpPr/>
            <p:nvPr/>
          </p:nvSpPr>
          <p:spPr>
            <a:xfrm>
              <a:off x="285480" y="1071360"/>
              <a:ext cx="585792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복지시설의 종류와 현황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권중돈</cp:lastModifiedBy>
  <dcterms:modified xsi:type="dcterms:W3CDTF">2022-08-26T01:37:40Z</dcterms:modified>
  <cp:revision>369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